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8E81-372A-47DA-862F-7CE905B21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6D11-4195-42FC-9B1A-F24E1809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3317-2CBA-4575-A3AF-7AF90360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5F89-F823-47CE-BE1E-98CA37C5A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68DB-426C-4598-89D1-C0D5A935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E9F6-8E1E-48E5-A90A-58F12571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9BDF-7C3C-44EF-883B-7FE8440A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5295-36D0-42CD-AFF9-D072C362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7C54-7414-4F70-9E6F-4D0FFF21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F078-B1B1-4C5E-A242-2B88977C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BAF8-9579-4B92-9E89-36D09E1C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DDAB-199F-4932-9DAA-0256061E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095A-1AB6-4A5B-9A8D-C8C6B4620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eb.mit.edu/invent/iow/colt.html" TargetMode="External"/><Relationship Id="rId4" Type="http://schemas.openxmlformats.org/officeDocument/2006/relationships/hyperlink" Target="http://web.mit.edu/invent/iow/colt.html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758f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4343400"/>
            <a:ext cx="2743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8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00200" y="1600200"/>
            <a:ext cx="64008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lt Revolver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758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Samuel Co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uel Colt was born on July 19, 1814, in Hartford Connectic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boy Sam helped his father at his silk and woolens st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was talented with machinery at a young 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set up a arm’s shop in 1837, in Paterson N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58f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Colt Revol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eapon contained a revolving cylinder that could hold 6 bull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eapon was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ts ki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lt revolver as used in the Mexican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836 Colt received the U.S. patent for his weap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58f9"/>
            </a:gs>
            <a:gs pos="50000">
              <a:srgbClr val="000000"/>
            </a:gs>
            <a:gs pos="100000">
              <a:srgbClr val="0758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Colt"/>
          <p:cNvPicPr/>
          <p:nvPr/>
        </p:nvPicPr>
        <p:blipFill>
          <a:blip r:embed="rId1"/>
          <a:stretch/>
        </p:blipFill>
        <p:spPr>
          <a:xfrm>
            <a:off x="533520" y="762120"/>
            <a:ext cx="2514600" cy="2914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Colt"/>
          <p:cNvPicPr/>
          <p:nvPr/>
        </p:nvPicPr>
        <p:blipFill>
          <a:blip r:embed="rId2"/>
          <a:srcRect l="28892" t="0" r="0" b="-851"/>
          <a:stretch/>
        </p:blipFill>
        <p:spPr>
          <a:xfrm>
            <a:off x="3886200" y="2895480"/>
            <a:ext cx="4572000" cy="2210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38862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muel Col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rch 9,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col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14800" y="548640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lt Revolve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March ,9 ,2010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eb.mit.edu/invent/iow/colt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8:39:08Z</dcterms:created>
  <dc:creator>install</dc:creator>
  <dc:description/>
  <dc:language>en-US</dc:language>
  <cp:lastModifiedBy>install</cp:lastModifiedBy>
  <dcterms:modified xsi:type="dcterms:W3CDTF">2010-03-22T16:06:12Z</dcterms:modified>
  <cp:revision>9</cp:revision>
  <dc:subject/>
  <dc:title>Slide 1</dc:title>
</cp:coreProperties>
</file>